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015-F7DF-4074-B5ED-10FA3D3C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E05-750D-4922-AA5A-13CFB154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E8E-5354-47D9-82A2-DD8B8E1C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597-0D1C-4EDE-9C17-E2C5F33B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BBAD-F6EE-4EB5-996D-947D8585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D1DF-356A-4BC2-9356-6BB6699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64C4-7602-491B-98A2-14FA49F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F800-045A-4E6D-933E-EABED779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F0AB-80E8-4F01-BB36-C65C1E49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EC6D-CEEB-409C-B14F-053A5203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C1CD-3394-4558-8F6A-93E519EE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E63-1081-4F02-A533-929623F0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1895-61BE-44B4-9818-C77D84BB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8F4D-E879-4926-B5B6-9CB98571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DE6D-66B1-4D3C-830E-34A01EFB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987E-3D62-4171-A222-041C1768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D600-39AA-486D-A70E-FB5DE10E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F81-7534-405D-A1D1-27F1796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573-9A69-4534-A418-94AB4766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CA8-EB42-45DB-88D0-851D3985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1BF-8DDA-4CCD-8D07-3297AF8A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63A-D162-4AE1-94D3-C5F751B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2CED-C132-4991-BF7B-5D1B8CCC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5FF-95FA-4908-A2D7-BD147DA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46AF-BC94-4813-B4CF-FFEB8C7D01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216E-8C3B-4BA7-A214-BCA0109470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项目二  统计数据的图表描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2637000"/>
            <a:ext cx="77770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力目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研究目的进行数据处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利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数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Verdana"/>
                <a:ea typeface="华文新魏"/>
              </a:rPr>
              <a:t>任务引入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企业人事部门为了制定各类管理、技术人员的职业发展计划和调整员工的薪酬待遇，造就一支业务精干的高素质、高境界、具有高度凝聚力和团队精神的人才队伍，并形成以绩效考核为核心导向的人才管理机制。对全体员工作了全面调查。其中，利用调查表取得以下统计数据，如表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-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如果你是这个企业的管理人员，现在需要对这些数据进行分组整理并用统计图表予以展示，以便分析揭示企业员工的性别构成，年龄结构，文化素质、专业技术构成以及各变量之间的内在关系，应从何入手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一    用图表展示定性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8440" y="1752480"/>
            <a:ext cx="7819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生成频数分布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定性数据的图形展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（一）条形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（二）饼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二   用图表展示定量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生成频数分布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定量数据的分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计算全距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数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距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d=R/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二   用图表展示定量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定量数据的图形展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一）直方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二）饼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三）线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四）散点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三   用图表展示相关联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相关联数据的判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变量因果关系的确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07:51:28Z</dcterms:created>
  <dc:creator>雨林木风</dc:creator>
  <dc:description/>
  <dc:language>en-US</dc:language>
  <cp:lastModifiedBy>hl</cp:lastModifiedBy>
  <dcterms:modified xsi:type="dcterms:W3CDTF">2013-10-13T16:31:03Z</dcterms:modified>
  <cp:revision>10</cp:revision>
  <dc:subject/>
  <dc:title>项目二  统计数据整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